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2.wmf" ContentType="image/x-wmf"/>
  <Override PartName="/ppt/media/image6.jpeg" ContentType="image/jpeg"/>
  <Override PartName="/ppt/media/image7.wmf" ContentType="image/x-wmf"/>
  <Override PartName="/ppt/media/image1.jpeg" ContentType="image/jpeg"/>
  <Override PartName="/ppt/media/image2.jpeg" ContentType="image/jpeg"/>
  <Override PartName="/ppt/media/wind.wav" ContentType="audio/x-wav"/>
  <Override PartName="/ppt/media/image11.png" ContentType="image/png"/>
  <Override PartName="/ppt/media/image3.jpeg" ContentType="image/jpeg"/>
  <Override PartName="/ppt/media/drumroll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FCB-4638-452C-90A5-E398940B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867-A1F7-40BE-BA3E-827895D1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028-ED9F-4795-84A7-B3186292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B3C-8DE8-4233-B728-1C257B2C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30A3-E897-4773-9093-82638CC0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4D96-3EE9-42EA-871D-BB6A6F3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B257-B5C7-4644-8AE4-1CD146C8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4811-A673-4611-8A04-28C1106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CE0-A8F3-46C4-A133-0966861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9099-DA1B-4F8C-AC92-8261FEF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7165-BA78-4C2A-B63B-6DD4F8F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E07-1827-43AA-8D4A-11E4DA2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A656-CC57-4617-A854-1F78DBF2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61DB-A7B5-42B4-B12F-EC07D78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758A-98FD-4ECF-B256-CFFDCF6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F190-BA4A-4BA3-AA85-107BA12A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A4E0-A15D-40C9-A949-9FD6BB2E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375-7959-44C3-BB23-92464838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8EC-CF23-45AA-AE3B-9377B43F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821-7D27-4622-B1F3-A9AAC43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ACE-01A2-4ED8-A044-94052756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FD5-BDFD-4133-B814-D986EF3F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427-0E64-479F-BD3F-02DF485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EB6-9247-46F7-888F-94F7A327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DB4-6834-4773-9D1E-7255D80BF3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0AB6-3EC6-4DBE-B666-3D50217CF7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e620"/>
                </a:solidFill>
                <a:latin typeface="Arial Black"/>
              </a:rPr>
              <a:t>La ropa y accesor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477120" cy="5168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500880" y="2666880"/>
            <a:ext cx="264312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0866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John saporett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15000">
    <p:checker dir="horz"/>
    <p:sndAc>
      <p:stSnd>
        <p:snd r:embed="rId3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343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la muchacha lleva la camisa azul y rosa. Ella lleva es blue j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64120" cy="5257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590920" y="152280"/>
            <a:ext cx="1752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e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rimavar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20000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 Black"/>
              </a:rPr>
              <a:t>lex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381492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 Black"/>
              </a:rPr>
              <a:t>La muchacha la lleva el taja de b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114800" y="685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era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20000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04920" y="365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ee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-609480" y="-838080"/>
            <a:ext cx="9753480" cy="7696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-609480" y="1676520"/>
            <a:ext cx="3886200" cy="32194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3581280" y="2286000"/>
            <a:ext cx="1658880" cy="1933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876920" y="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caíd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Black"/>
              </a:rPr>
              <a:t>Wes welk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 advTm="20000">
    <p:checker dir="horz"/>
    <p:sndAc>
      <p:stSnd>
        <p:snd r:embed="rId5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e620"/>
                </a:solidFill>
                <a:latin typeface="Arial Black"/>
              </a:rPr>
              <a:t>Bella/ jo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Bella es lleva blanco </a:t>
            </a:r>
            <a:r>
              <a:rPr b="0" lang="es-ES" sz="3200" spc="-1" strike="noStrike">
                <a:solidFill>
                  <a:srgbClr val="46e620"/>
                </a:solidFill>
                <a:latin typeface="Arial Black"/>
              </a:rPr>
              <a:t>sudadera</a:t>
            </a: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 y blue jeans. Jose es lleva negro </a:t>
            </a:r>
            <a:r>
              <a:rPr b="0" lang="es-ES" sz="3200" spc="-1" strike="noStrike">
                <a:solidFill>
                  <a:srgbClr val="46e620"/>
                </a:solidFill>
                <a:latin typeface="Arial Black"/>
              </a:rPr>
              <a:t>sudadera</a:t>
            </a: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 y blue jeans.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952880" y="533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int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" descr="The Tsinandali Garden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2590920" y="2286000"/>
            <a:ext cx="3889080" cy="3889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0" y="2163600"/>
            <a:ext cx="3429000" cy="3488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4724280" cy="1400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  <p:sndAc>
      <p:stSnd>
        <p:snd r:embed="rId6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3200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e620"/>
                </a:solidFill>
                <a:latin typeface="Arial Black"/>
              </a:rPr>
              <a:t>becc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 lleva el negro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353040" cy="3895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724280" y="685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 Black"/>
              </a:rPr>
              <a:t>inviern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9:43Z</dcterms:created>
  <dc:creator>saporettijoh</dc:creator>
  <dc:description/>
  <dc:language>en-US</dc:language>
  <cp:lastModifiedBy>saporettijoh</cp:lastModifiedBy>
  <dcterms:modified xsi:type="dcterms:W3CDTF">2011-12-14T16:44:31Z</dcterms:modified>
  <cp:revision>7</cp:revision>
  <dc:subject/>
  <dc:title>La ropa y accesories</dc:title>
</cp:coreProperties>
</file>